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C813-C76C-49E2-8618-DFFFFCDF9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type their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A5F0-9BAF-4216-A50D-5029C0035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and drag the correct dinosaur from the choices on the right to complete each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7C5-C67A-4C05-A1B4-76308FE59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use the line drawing tool to draw a line and connect the matching dinosa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BD35-D970-46D3-8CC4-7E65FA800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ount the dinosaurs on the page and click after the question mark (?) and enter thei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805-4ACC-40AA-9FA2-3D9ACE423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on the clipart suggestion and type in dinosaur and select their favorite from the clip art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7782-C90B-4917-B7F7-E265D9261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on the mountain to find the picture they created in Drawing for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7E48-3E41-43B7-B958-7A0E4261C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4C0-2C42-4BFA-AE15-824596ED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4C4-9D3B-4139-9FFC-0DC0EB27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4A9-2C8B-4AB9-BEBC-3C714D48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073-382A-438B-85A4-DF656503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4C6-A738-4FF1-A9D5-73C6480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F65-BA3B-45C3-8038-99DF0CF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E56-E7E1-4B22-B645-1CCC819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28D-963E-4B4B-9A9D-3EEA263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3CF-758D-4FB7-B67F-43051E7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C4-42AB-4C39-913D-FAA0B9F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5DA-4D79-4266-84E0-825019E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4B6-B5DA-4F76-A051-CD0FB88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C3F6-1E9E-491A-A52E-68E77E67F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image" Target="../media/image6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2"/>
          <p:cNvSpPr/>
          <p:nvPr/>
        </p:nvSpPr>
        <p:spPr>
          <a:xfrm flipH="1">
            <a:off x="7620120" y="0"/>
            <a:ext cx="1440" cy="68580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edgwick\AppData\Local\Microsoft\Windows\Temporary Internet Files\Content.IE5\BZB8V9SZ\MCj04160700000[1].wmf"/>
          <p:cNvPicPr/>
          <p:nvPr/>
        </p:nvPicPr>
        <p:blipFill>
          <a:blip r:embed="rId1"/>
          <a:stretch/>
        </p:blipFill>
        <p:spPr>
          <a:xfrm>
            <a:off x="152280" y="182880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Sedgwick\AppData\Local\Microsoft\Windows\Temporary Internet Files\Content.IE5\BZB8V9SZ\MCj04160700000[1].wmf"/>
          <p:cNvPicPr/>
          <p:nvPr/>
        </p:nvPicPr>
        <p:blipFill>
          <a:blip r:embed="rId2"/>
          <a:stretch/>
        </p:blipFill>
        <p:spPr>
          <a:xfrm>
            <a:off x="7924680" y="15228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Sedgwick\AppData\Local\Microsoft\Windows\Temporary Internet Files\Content.IE5\4REC6ZMN\MCj04245960000[1].wmf"/>
          <p:cNvPicPr/>
          <p:nvPr/>
        </p:nvPicPr>
        <p:blipFill>
          <a:blip r:embed="rId3"/>
          <a:stretch/>
        </p:blipFill>
        <p:spPr>
          <a:xfrm>
            <a:off x="1506600" y="14479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edgwick\AppData\Local\Microsoft\Windows\Temporary Internet Files\Content.IE5\4REC6ZMN\MCj04245960000[1].wmf"/>
          <p:cNvPicPr/>
          <p:nvPr/>
        </p:nvPicPr>
        <p:blipFill>
          <a:blip r:embed="rId4"/>
          <a:stretch/>
        </p:blipFill>
        <p:spPr>
          <a:xfrm>
            <a:off x="3944880" y="14479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Sedgwick\AppData\Local\Microsoft\Windows\Temporary Internet Files\Content.IE5\BZB8V9SZ\MCj04160700000[1].wmf"/>
          <p:cNvPicPr/>
          <p:nvPr/>
        </p:nvPicPr>
        <p:blipFill>
          <a:blip r:embed="rId5"/>
          <a:stretch/>
        </p:blipFill>
        <p:spPr>
          <a:xfrm>
            <a:off x="4952880" y="190512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Sedgwick\AppData\Local\Microsoft\Windows\Temporary Internet Files\Content.IE5\BZB8V9SZ\MCj04160700000[1].wmf"/>
          <p:cNvPicPr/>
          <p:nvPr/>
        </p:nvPicPr>
        <p:blipFill>
          <a:blip r:embed="rId6"/>
          <a:stretch/>
        </p:blipFill>
        <p:spPr>
          <a:xfrm>
            <a:off x="2754360" y="1905120"/>
            <a:ext cx="105552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edgwick\AppData\Local\Microsoft\Windows\Temporary Internet Files\Content.IE5\4REC6ZMN\MCj04245960000[1].wmf"/>
          <p:cNvPicPr/>
          <p:nvPr/>
        </p:nvPicPr>
        <p:blipFill>
          <a:blip r:embed="rId7"/>
          <a:stretch/>
        </p:blipFill>
        <p:spPr>
          <a:xfrm>
            <a:off x="7772400" y="7621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Sedgwick\AppData\Local\Microsoft\Windows\Temporary Internet Files\Content.IE5\BZB8V9SZ\MCAN00753_0000[1].wmf"/>
          <p:cNvPicPr/>
          <p:nvPr/>
        </p:nvPicPr>
        <p:blipFill>
          <a:blip r:embed="rId8"/>
          <a:stretch/>
        </p:blipFill>
        <p:spPr>
          <a:xfrm>
            <a:off x="0" y="358128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Sedgwick\AppData\Local\Microsoft\Windows\Temporary Internet Files\Content.IE5\4REC6ZMN\MCAN01306_0000[1].wmf"/>
          <p:cNvPicPr/>
          <p:nvPr/>
        </p:nvPicPr>
        <p:blipFill>
          <a:blip r:embed="rId9"/>
          <a:stretch/>
        </p:blipFill>
        <p:spPr>
          <a:xfrm>
            <a:off x="121932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Sedgwick\AppData\Local\Microsoft\Windows\Temporary Internet Files\Content.IE5\4REC6ZMN\MCAN01306_0000[1].wmf"/>
          <p:cNvPicPr/>
          <p:nvPr/>
        </p:nvPicPr>
        <p:blipFill>
          <a:blip r:embed="rId10"/>
          <a:stretch/>
        </p:blipFill>
        <p:spPr>
          <a:xfrm>
            <a:off x="243828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Sedgwick\AppData\Local\Microsoft\Windows\Temporary Internet Files\Content.IE5\BZB8V9SZ\MCAN00753_0000[1].wmf"/>
          <p:cNvPicPr/>
          <p:nvPr/>
        </p:nvPicPr>
        <p:blipFill>
          <a:blip r:embed="rId11"/>
          <a:stretch/>
        </p:blipFill>
        <p:spPr>
          <a:xfrm>
            <a:off x="3592440" y="358128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Sedgwick\AppData\Local\Microsoft\Windows\Temporary Internet Files\Content.IE5\4REC6ZMN\MCAN01306_0000[1].wmf"/>
          <p:cNvPicPr/>
          <p:nvPr/>
        </p:nvPicPr>
        <p:blipFill>
          <a:blip r:embed="rId12"/>
          <a:stretch/>
        </p:blipFill>
        <p:spPr>
          <a:xfrm>
            <a:off x="495288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Sedgwick\AppData\Local\Microsoft\Windows\Temporary Internet Files\Content.IE5\4REC6ZMN\MCAN01306_0000[1].wmf"/>
          <p:cNvPicPr/>
          <p:nvPr/>
        </p:nvPicPr>
        <p:blipFill>
          <a:blip r:embed="rId13"/>
          <a:stretch/>
        </p:blipFill>
        <p:spPr>
          <a:xfrm>
            <a:off x="7772400" y="30481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Sedgwick\AppData\Local\Microsoft\Windows\Temporary Internet Files\Content.IE5\BZB8V9SZ\MCAN00753_0000[1].wmf"/>
          <p:cNvPicPr/>
          <p:nvPr/>
        </p:nvPicPr>
        <p:blipFill>
          <a:blip r:embed="rId14"/>
          <a:stretch/>
        </p:blipFill>
        <p:spPr>
          <a:xfrm>
            <a:off x="7696080" y="205740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Sedgwick\AppData\Local\Microsoft\Windows\Temporary Internet Files\Content.IE5\IYTUHS8Y\MCBD07375_0000[1].wmf"/>
          <p:cNvPicPr/>
          <p:nvPr/>
        </p:nvPicPr>
        <p:blipFill>
          <a:blip r:embed="rId15"/>
          <a:stretch/>
        </p:blipFill>
        <p:spPr>
          <a:xfrm>
            <a:off x="228600" y="541008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Sedgwick\AppData\Local\Microsoft\Windows\Temporary Internet Files\Content.IE5\BZB8V9SZ\MCBD07372_0000[1].wmf"/>
          <p:cNvPicPr/>
          <p:nvPr/>
        </p:nvPicPr>
        <p:blipFill>
          <a:blip r:embed="rId16"/>
          <a:stretch/>
        </p:blipFill>
        <p:spPr>
          <a:xfrm>
            <a:off x="914400" y="5410080"/>
            <a:ext cx="1065240" cy="9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Sedgwick\AppData\Local\Microsoft\Windows\Temporary Internet Files\Content.IE5\KFXP841X\MCBD07368_0000[1].wmf"/>
          <p:cNvPicPr/>
          <p:nvPr/>
        </p:nvPicPr>
        <p:blipFill>
          <a:blip r:embed="rId17"/>
          <a:stretch/>
        </p:blipFill>
        <p:spPr>
          <a:xfrm>
            <a:off x="2209680" y="5334120"/>
            <a:ext cx="115416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Sedgwick\AppData\Local\Microsoft\Windows\Temporary Internet Files\Content.IE5\IYTUHS8Y\MCBD07375_0000[1].wmf"/>
          <p:cNvPicPr/>
          <p:nvPr/>
        </p:nvPicPr>
        <p:blipFill>
          <a:blip r:embed="rId18"/>
          <a:stretch/>
        </p:blipFill>
        <p:spPr>
          <a:xfrm>
            <a:off x="3886200" y="533412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Sedgwick\AppData\Local\Microsoft\Windows\Temporary Internet Files\Content.IE5\KFXP841X\MCBD07368_0000[1].wmf"/>
          <p:cNvPicPr/>
          <p:nvPr/>
        </p:nvPicPr>
        <p:blipFill>
          <a:blip r:embed="rId19"/>
          <a:stretch/>
        </p:blipFill>
        <p:spPr>
          <a:xfrm>
            <a:off x="6172200" y="5257800"/>
            <a:ext cx="11541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Users\Sedgwick\AppData\Local\Microsoft\Windows\Temporary Internet Files\Content.IE5\KFXP841X\MCBD07368_0000[1].wmf"/>
          <p:cNvPicPr/>
          <p:nvPr/>
        </p:nvPicPr>
        <p:blipFill>
          <a:blip r:embed="rId20"/>
          <a:stretch/>
        </p:blipFill>
        <p:spPr>
          <a:xfrm>
            <a:off x="7848720" y="5638680"/>
            <a:ext cx="115416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Sedgwick\AppData\Local\Microsoft\Windows\Temporary Internet Files\Content.IE5\IYTUHS8Y\MCBD07375_0000[1].wmf"/>
          <p:cNvPicPr/>
          <p:nvPr/>
        </p:nvPicPr>
        <p:blipFill>
          <a:blip r:embed="rId21"/>
          <a:stretch/>
        </p:blipFill>
        <p:spPr>
          <a:xfrm>
            <a:off x="8305920" y="358128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Users\Sedgwick\AppData\Local\Microsoft\Windows\Temporary Internet Files\Content.IE5\BZB8V9SZ\MCBD07372_0000[1].wmf"/>
          <p:cNvPicPr/>
          <p:nvPr/>
        </p:nvPicPr>
        <p:blipFill>
          <a:blip r:embed="rId22"/>
          <a:stretch/>
        </p:blipFill>
        <p:spPr>
          <a:xfrm>
            <a:off x="7848720" y="4724280"/>
            <a:ext cx="1065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Sedgwick\AppData\Local\Microsoft\Windows\Temporary Internet Files\Content.IE5\KFXP841X\MCAN00483_0000[1].wmf"/>
          <p:cNvPicPr/>
          <p:nvPr/>
        </p:nvPicPr>
        <p:blipFill>
          <a:blip r:embed="rId1"/>
          <a:stretch/>
        </p:blipFill>
        <p:spPr>
          <a:xfrm>
            <a:off x="7086600" y="1295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Sedgwick\AppData\Local\Microsoft\Windows\Temporary Internet Files\Content.IE5\KFXP841X\MCAN00483_0000[1].wmf"/>
          <p:cNvPicPr/>
          <p:nvPr/>
        </p:nvPicPr>
        <p:blipFill>
          <a:blip r:embed="rId2"/>
          <a:stretch/>
        </p:blipFill>
        <p:spPr>
          <a:xfrm>
            <a:off x="917640" y="5867280"/>
            <a:ext cx="100656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Sedgwick\AppData\Local\Microsoft\Windows\Temporary Internet Files\Content.IE5\KFXP841X\MCAN00483_0000[1].wmf"/>
          <p:cNvPicPr/>
          <p:nvPr/>
        </p:nvPicPr>
        <p:blipFill>
          <a:blip r:embed="rId3"/>
          <a:stretch/>
        </p:blipFill>
        <p:spPr>
          <a:xfrm flipH="1">
            <a:off x="857160" y="3581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Sedgwick\AppData\Local\Microsoft\Windows\Temporary Internet Files\Content.IE5\KFXP841X\MCAN00483_0000[1].wmf"/>
          <p:cNvPicPr/>
          <p:nvPr/>
        </p:nvPicPr>
        <p:blipFill>
          <a:blip r:embed="rId4"/>
          <a:stretch/>
        </p:blipFill>
        <p:spPr>
          <a:xfrm flipH="1">
            <a:off x="6934320" y="5867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Sedgwick\AppData\Local\Microsoft\Windows\Temporary Internet Files\Content.IE5\IYTUHS8Y\MCAN00351_0000[1].wmf"/>
          <p:cNvPicPr/>
          <p:nvPr/>
        </p:nvPicPr>
        <p:blipFill>
          <a:blip r:embed="rId5"/>
          <a:stretch/>
        </p:blipFill>
        <p:spPr>
          <a:xfrm>
            <a:off x="541440" y="1219320"/>
            <a:ext cx="16682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Sedgwick\AppData\Local\Microsoft\Windows\Temporary Internet Files\Content.IE5\IYTUHS8Y\MCAN00351_0000[1].wmf"/>
          <p:cNvPicPr/>
          <p:nvPr/>
        </p:nvPicPr>
        <p:blipFill>
          <a:blip r:embed="rId6"/>
          <a:stretch/>
        </p:blipFill>
        <p:spPr>
          <a:xfrm>
            <a:off x="6553080" y="4724280"/>
            <a:ext cx="16686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edgwick\AppData\Local\Microsoft\Windows\Temporary Internet Files\Content.IE5\BZB8V9SZ\MCAN00753_0000[1].wmf"/>
          <p:cNvPicPr/>
          <p:nvPr/>
        </p:nvPicPr>
        <p:blipFill>
          <a:blip r:embed="rId7"/>
          <a:stretch/>
        </p:blipFill>
        <p:spPr>
          <a:xfrm>
            <a:off x="781200" y="4724280"/>
            <a:ext cx="12078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Sedgwick\AppData\Local\Microsoft\Windows\Temporary Internet Files\Content.IE5\BZB8V9SZ\MCAN00753_0000[1].wmf"/>
          <p:cNvPicPr/>
          <p:nvPr/>
        </p:nvPicPr>
        <p:blipFill>
          <a:blip r:embed="rId8"/>
          <a:stretch/>
        </p:blipFill>
        <p:spPr>
          <a:xfrm>
            <a:off x="6858000" y="365760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Sedgwick\AppData\Local\Microsoft\Windows\Temporary Internet Files\Content.IE5\KFXP841X\MCj04246000000[1].wmf"/>
          <p:cNvPicPr/>
          <p:nvPr/>
        </p:nvPicPr>
        <p:blipFill>
          <a:blip r:embed="rId9"/>
          <a:stretch/>
        </p:blipFill>
        <p:spPr>
          <a:xfrm>
            <a:off x="617400" y="2438280"/>
            <a:ext cx="14605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Sedgwick\AppData\Local\Microsoft\Windows\Temporary Internet Files\Content.IE5\KFXP841X\MCj04246000000[1].wmf"/>
          <p:cNvPicPr/>
          <p:nvPr/>
        </p:nvPicPr>
        <p:blipFill>
          <a:blip r:embed="rId10"/>
          <a:stretch/>
        </p:blipFill>
        <p:spPr>
          <a:xfrm>
            <a:off x="6629400" y="2514600"/>
            <a:ext cx="1459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dinosaurs do you see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Sedgwick\AppData\Local\Microsoft\Windows\Temporary Internet Files\Content.IE5\4REC6ZMN\MCAN00728_0000[1].wmf"/>
          <p:cNvPicPr/>
          <p:nvPr/>
        </p:nvPicPr>
        <p:blipFill>
          <a:blip r:embed="rId1"/>
          <a:stretch/>
        </p:blipFill>
        <p:spPr>
          <a:xfrm>
            <a:off x="30492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Sedgwick\AppData\Local\Microsoft\Windows\Temporary Internet Files\Content.IE5\4REC6ZMN\MCAN00728_0000[1].wmf"/>
          <p:cNvPicPr/>
          <p:nvPr/>
        </p:nvPicPr>
        <p:blipFill>
          <a:blip r:embed="rId2"/>
          <a:stretch/>
        </p:blipFill>
        <p:spPr>
          <a:xfrm>
            <a:off x="472428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Sedgwick\AppData\Local\Microsoft\Windows\Temporary Internet Files\Content.IE5\4REC6ZMN\MCAN00728_0000[1].wmf"/>
          <p:cNvPicPr/>
          <p:nvPr/>
        </p:nvPicPr>
        <p:blipFill>
          <a:blip r:embed="rId3">
            <a:grayscl/>
          </a:blip>
          <a:stretch/>
        </p:blipFill>
        <p:spPr>
          <a:xfrm>
            <a:off x="236232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Sedgwick\AppData\Local\Microsoft\Windows\Temporary Internet Files\Content.IE5\4REC6ZMN\MCAN00728_0000[1].wmf"/>
          <p:cNvPicPr/>
          <p:nvPr/>
        </p:nvPicPr>
        <p:blipFill>
          <a:blip r:embed="rId4"/>
          <a:stretch/>
        </p:blipFill>
        <p:spPr>
          <a:xfrm flipH="1">
            <a:off x="228564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Sedgwick\AppData\Local\Microsoft\Windows\Temporary Internet Files\Content.IE5\4REC6ZMN\MCAN00728_0000[1].wmf"/>
          <p:cNvPicPr/>
          <p:nvPr/>
        </p:nvPicPr>
        <p:blipFill>
          <a:blip r:embed="rId5"/>
          <a:stretch/>
        </p:blipFill>
        <p:spPr>
          <a:xfrm flipH="1">
            <a:off x="670536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Sedgwick\AppData\Local\Microsoft\Windows\Temporary Internet Files\Content.IE5\4REC6ZMN\MCAN00728_0000[1].wmf"/>
          <p:cNvPicPr/>
          <p:nvPr/>
        </p:nvPicPr>
        <p:blipFill>
          <a:blip r:embed="rId6">
            <a:grayscl/>
          </a:blip>
          <a:stretch/>
        </p:blipFill>
        <p:spPr>
          <a:xfrm flipH="1">
            <a:off x="15192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Sedgwick\AppData\Local\Microsoft\Windows\Temporary Internet Files\Content.IE5\4REC6ZMN\MCAN00728_0000[1].wmf"/>
          <p:cNvPicPr/>
          <p:nvPr/>
        </p:nvPicPr>
        <p:blipFill>
          <a:blip r:embed="rId7">
            <a:grayscl/>
          </a:blip>
          <a:stretch/>
        </p:blipFill>
        <p:spPr>
          <a:xfrm flipH="1">
            <a:off x="441936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Sedgwick\AppData\Local\Microsoft\Windows\Temporary Internet Files\Content.IE5\4REC6ZMN\MCAN00728_0000[1].wmf"/>
          <p:cNvPicPr/>
          <p:nvPr/>
        </p:nvPicPr>
        <p:blipFill>
          <a:blip r:embed="rId8">
            <a:grayscl/>
          </a:blip>
          <a:stretch/>
        </p:blipFill>
        <p:spPr>
          <a:xfrm>
            <a:off x="6629400" y="32767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Sedgwick\AppData\Local\Microsoft\Windows\Temporary Internet Files\Content.IE5\KFXP841X\MCj04246000000[1].wmf"/>
          <p:cNvPicPr/>
          <p:nvPr/>
        </p:nvPicPr>
        <p:blipFill>
          <a:blip r:embed="rId9"/>
          <a:stretch/>
        </p:blipFill>
        <p:spPr>
          <a:xfrm flipH="1">
            <a:off x="5486400" y="5334120"/>
            <a:ext cx="1905120" cy="119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Sedgwick\AppData\Local\Microsoft\Windows\Temporary Internet Files\Content.IE5\KFXP841X\MCj04246000000[1].wmf"/>
          <p:cNvPicPr/>
          <p:nvPr/>
        </p:nvPicPr>
        <p:blipFill>
          <a:blip r:embed="rId10"/>
          <a:stretch/>
        </p:blipFill>
        <p:spPr>
          <a:xfrm>
            <a:off x="76320" y="5334120"/>
            <a:ext cx="190476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Sedgwick\AppData\Local\Microsoft\Windows\Temporary Internet Files\Content.IE5\KFXP841X\MCj04246000000[1].wmf"/>
          <p:cNvPicPr/>
          <p:nvPr/>
        </p:nvPicPr>
        <p:blipFill>
          <a:blip r:embed="rId11"/>
          <a:stretch/>
        </p:blipFill>
        <p:spPr>
          <a:xfrm>
            <a:off x="7162920" y="5334120"/>
            <a:ext cx="19047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KFXP841X\MCj04246000000[1].wmf"/>
          <p:cNvPicPr/>
          <p:nvPr/>
        </p:nvPicPr>
        <p:blipFill>
          <a:blip r:embed="rId12"/>
          <a:stretch/>
        </p:blipFill>
        <p:spPr>
          <a:xfrm>
            <a:off x="3581280" y="5334120"/>
            <a:ext cx="190512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Sedgwick\AppData\Local\Microsoft\Windows\Temporary Internet Files\Content.IE5\KFXP841X\MCj04246000000[1].wmf"/>
          <p:cNvPicPr/>
          <p:nvPr/>
        </p:nvPicPr>
        <p:blipFill>
          <a:blip r:embed="rId13"/>
          <a:stretch/>
        </p:blipFill>
        <p:spPr>
          <a:xfrm flipH="1">
            <a:off x="1981080" y="5334120"/>
            <a:ext cx="1905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Dinosa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Dinosaur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7:30:24Z</dcterms:created>
  <dc:creator>Sedgwick</dc:creator>
  <dc:description/>
  <dc:language>en-US</dc:language>
  <cp:lastModifiedBy>Sedgwick</cp:lastModifiedBy>
  <dcterms:modified xsi:type="dcterms:W3CDTF">2009-02-26T17:33:33Z</dcterms:modified>
  <cp:revision>11</cp:revision>
  <dc:subject/>
  <dc:title>Dinosaurs</dc:title>
</cp:coreProperties>
</file>